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FE168-514D-4B19-BFF2-975B8D4B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B4541-2751-4EF9-8FD3-B7D46C6B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D220-10B8-4CBE-86CD-81086D55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6A236-F06D-4F65-9F3C-E2ECF60D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2FBD-940C-4F28-B1DD-55883C7C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53FB-112F-47F2-88A7-A11FBFBA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9672-DDA3-40A8-9D75-BE7B3A27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A6AA-CBC9-4F10-A271-E6412159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AAD6-7E3F-433D-B6D9-CE9522F8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2098-297E-4D9C-976C-83E55DC4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032F-DAD2-46E4-AA66-E4D02045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83CAC-C529-4F41-A7DF-9582CA77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4CBB-56AC-431D-9C3B-BE0A8D23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52D8-C2D2-4B5E-BE7E-E1583C0E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3F8C-21BC-4C8C-89D6-41BFFDE7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032B-4212-4FD1-AF01-615FF4A7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C3FB-F33C-4101-B7AA-8EEDB079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22DA0-90AE-464F-8331-65048E43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FF48D-664B-4230-9CF1-8B9D292C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CA8A-1B2D-43A0-8F16-42E15A11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45E28-D7B5-4B78-AE15-4DEAC3B3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70FC-56F3-4FF2-899C-1F18F8FD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2FA67-9FA3-4CBC-B8A2-43764A89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A1FF2-EFFC-424F-B2C9-338C6BF7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3811-E704-4F92-B27D-54524AC622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A2BD-1285-4961-816A-30326A15CE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e5e5ff"/>
                </a:solidFill>
                <a:latin typeface="Garamond"/>
              </a:rPr>
              <a:t>Chinese Men on the Goldfield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By Andrew B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did they bring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the Chinese men first arrived in Victoria they had bring pickaxes, money, shovels, buckets, windlass, tents, blankets, seeds, plants and crad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en did Chinese men first arrived in Victoria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hinese men first arrived in Victoria in 185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id the Chinese men do with their gold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the Chinese men had found gold, they send it back to their family in China and stays on the goldfields to dig for mo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Why are they called Wog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y were called Wogs because they are a wise orintenal gentle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Why don’t people like them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People didn’t like them because they never seen them befo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 Europeans hates because when they didn’t find any gold, they left the goldfields and the Chinese came to the same spot and found lots of gol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When the Europeans found out they plan to kill the Chinese when they’re aslee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2296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Why does some of the Chinese built shops instead of digging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Some Chinese dig for gold and some built shops because their bodies were weak and cannot handle the diggi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When they first came here, they didn’t just bring tools and supplies they also bring plants and see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Were there many Chinese men on the goldfield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re were tons and thousands of Chinese men on the goldfiel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Some digs for gold and some built to sell plants and seeds for gol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Why did the Chinese men left their family in China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 Chinese men left their family in China because they think that it’s dangerous to travel with their fami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y might get killed or robbed by bushrangers while on the goldfiel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y left their families in China because when they found some gold, they can send them the gold back to Chin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What did they ea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 Chinese eats bread and drinks tea and if some don’t have tea then they have to find fresh water but it’s very hard to fi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What did they wear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 Chinese wear their traditional clothing with loose blue shirts and trousers with a distinctive cone-shaped straw h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Where did they sleep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 Chinese finds a spot and put out their tent and sleep inside the tent or if they don’t have a tent they can sleep in a hot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3:19:54Z</dcterms:created>
  <dc:creator>andrew_bui</dc:creator>
  <dc:description/>
  <dc:language>en-US</dc:language>
  <cp:lastModifiedBy>andrew_bui</cp:lastModifiedBy>
  <dcterms:modified xsi:type="dcterms:W3CDTF">2010-09-15T05:07:41Z</dcterms:modified>
  <cp:revision>6</cp:revision>
  <dc:subject/>
  <dc:title>Chinese Men on the Goldfields</dc:title>
</cp:coreProperties>
</file>